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54F-2310-4833-B961-3E3E8914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66C-345F-4ED5-A672-6E3A57B6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B60-D2EB-45D9-B3FC-97B86950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7EE-7E83-42EA-8A64-03E9AB08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2EC-E38F-4293-BC4B-EA09B864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369-0147-4311-B69C-DAEDE3CF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64A-24D0-420B-8724-82EFC625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BF6-920E-4D4A-B76E-B361FEDD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20A-89C8-4392-8EFD-621032E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5E5-A9CF-440E-AAD6-7F88346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507-E834-4D7A-9EB6-D7B2C659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209-D825-4ADF-8919-1AFD30FA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0569-B5C7-4D2E-9803-954B475DD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 following the Tamale, Ghana and Addis Ababa, Ethiopia workshop (version 2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2" name="Chevron 3"/>
            <p:cNvSpPr/>
            <p:nvPr/>
          </p:nvSpPr>
          <p:spPr>
            <a:xfrm>
              <a:off x="321444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5915520" y="149040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hevron 5"/>
            <p:cNvSpPr/>
            <p:nvPr/>
          </p:nvSpPr>
          <p:spPr>
            <a:xfrm>
              <a:off x="7452720" y="148896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entagon 9"/>
            <p:cNvSpPr/>
            <p:nvPr/>
          </p:nvSpPr>
          <p:spPr>
            <a:xfrm>
              <a:off x="1619280" y="149040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5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6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7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Box 10"/>
                <p:cNvSpPr/>
                <p:nvPr/>
              </p:nvSpPr>
              <p:spPr>
                <a:xfrm rot="16200000">
                  <a:off x="415224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20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8"/>
                <p:cNvSpPr/>
                <p:nvPr/>
              </p:nvSpPr>
              <p:spPr>
                <a:xfrm rot="16200000">
                  <a:off x="341028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3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Box 6"/>
                <p:cNvSpPr/>
                <p:nvPr/>
              </p:nvSpPr>
              <p:spPr>
                <a:xfrm rot="16200000">
                  <a:off x="2718720" y="3120840"/>
                  <a:ext cx="388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6" name="Can 35"/>
              <p:cNvSpPr/>
              <p:nvPr/>
            </p:nvSpPr>
            <p:spPr>
              <a:xfrm rot="16200000">
                <a:off x="1754280" y="284760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9" name="Left Brace 59"/>
            <p:cNvSpPr/>
            <p:nvPr/>
          </p:nvSpPr>
          <p:spPr>
            <a:xfrm rot="5400000">
              <a:off x="4572000" y="-525600"/>
              <a:ext cx="504360" cy="2807640"/>
            </a:xfrm>
            <a:custGeom>
              <a:avLst/>
              <a:gdLst>
                <a:gd name="textAreaLeft" fmla="*/ 322200 w 504360"/>
                <a:gd name="textAreaRight" fmla="*/ 504720 w 50436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2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4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5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8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1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4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7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8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1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4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7" name="Left Brace 49"/>
            <p:cNvSpPr/>
            <p:nvPr/>
          </p:nvSpPr>
          <p:spPr>
            <a:xfrm rot="5400000">
              <a:off x="4572000" y="-530280"/>
              <a:ext cx="504000" cy="280764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70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8"/>
            <p:cNvSpPr/>
            <p:nvPr/>
          </p:nvSpPr>
          <p:spPr>
            <a:xfrm rot="16200000">
              <a:off x="3358440" y="4515480"/>
              <a:ext cx="409680" cy="2159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640"/>
                <a:gd name="textAreaBottom" fmla="*/ 2142720 h 21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eft Bracket 59"/>
            <p:cNvSpPr/>
            <p:nvPr/>
          </p:nvSpPr>
          <p:spPr>
            <a:xfrm rot="16200000">
              <a:off x="3646440" y="4786560"/>
              <a:ext cx="409680" cy="1583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3640"/>
                <a:gd name="textAreaBottom" fmla="*/ 156672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4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3"/>
            <p:cNvSpPr/>
            <p:nvPr/>
          </p:nvSpPr>
          <p:spPr>
            <a:xfrm flipH="1" rot="5400000">
              <a:off x="5802480" y="4230360"/>
              <a:ext cx="409680" cy="272988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729880"/>
                <a:gd name="textAreaBottom" fmla="*/ 27086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1042920" y="33660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dapt and evaluate sustainable intensification farm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042920" y="33660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nd adapt sustainable intensification farming op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the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e the effects at the field, farm, and landscap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042920" y="326880"/>
            <a:ext cx="7921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utcomes (version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d on- and off-farm natural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18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920" y="4152240"/>
              <a:ext cx="4495680" cy="537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7640"/>
            <a:chOff x="250920" y="981000"/>
            <a:chExt cx="8713800" cy="568764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59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040" y="3559680"/>
              <a:ext cx="567828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160" y="3141720"/>
              <a:ext cx="630756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080"/>
              <a:ext cx="352728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8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8160" y="4277160"/>
              <a:ext cx="4248000" cy="5356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1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7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36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120" y="551736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48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692280"/>
            <a:ext cx="7777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stainable pathways ou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ural populations, particularly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rough sufficiently improv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ation and enhancement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11280" y="692280"/>
            <a:ext cx="77770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define this?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e or enhanc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5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9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1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4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entagon 4"/>
            <p:cNvSpPr/>
            <p:nvPr/>
          </p:nvSpPr>
          <p:spPr>
            <a:xfrm>
              <a:off x="1619280" y="1486080"/>
              <a:ext cx="1656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7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entagon 4"/>
            <p:cNvSpPr/>
            <p:nvPr/>
          </p:nvSpPr>
          <p:spPr>
            <a:xfrm>
              <a:off x="1628640" y="2392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60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entagon 4"/>
            <p:cNvSpPr/>
            <p:nvPr/>
          </p:nvSpPr>
          <p:spPr>
            <a:xfrm>
              <a:off x="1619280" y="330516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3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entagon 4"/>
            <p:cNvSpPr/>
            <p:nvPr/>
          </p:nvSpPr>
          <p:spPr>
            <a:xfrm>
              <a:off x="1619280" y="4264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6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8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9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2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5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8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1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2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5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8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2-07T05:38:14Z</dcterms:modified>
  <cp:revision>73</cp:revision>
  <dc:subject/>
  <dc:title>Sustainable intensification of crop-livestock systems to improve food security and farm income diversification in the Ethiopian highlands</dc:title>
</cp:coreProperties>
</file>